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B9A8-F887-4523-8BFC-DDF805856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8D96-B7F9-4F7A-89FC-7CD28F2E4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15C6-AD61-415B-96AF-C8B8E3ED7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B8E8-A883-4E5B-ADAC-8C7DD6B95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B09B-4080-4A46-88DB-B217B2303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6E0F-0B4F-41F4-9DA8-A76705EF6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D731-0BDD-42A9-8DDB-DC3F8187A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605C-C75D-40BE-BB64-55C1F5057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655-2937-4778-8771-79664D518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7715-632D-4FCA-BE14-18ECC7E09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757A-BC3F-45DB-8B19-621964EB8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9D99-8765-4F63-A807-C69C187BE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C3CE-1541-4CD6-9B3D-2381C7688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864F-B74F-41D3-8369-F7B207E9B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EDF1-C1F9-4F7E-B6AB-CC7541E4E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1BF5-873E-4198-83AD-FECB598E7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8FE5-8CD2-4EA9-865B-56A4563FC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6D17-76FF-41BC-A738-4417AE6BB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6092-D331-46F4-92F8-B330CB2B6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CDFE-04D5-4EE2-ABD8-6125F0E9D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FE0D-D7AD-40AA-A248-7F8751C81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0E5-4FBD-4AD6-B7BC-C250C2527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B47C-6441-4159-958A-5EF266A06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E178-F202-43D7-9D49-902FACD26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99F4-0B5A-4824-A1A2-858C00577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3209-6189-4016-906C-A995246C5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071C-FDC2-4F80-B591-ECA154C0D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D7A6-CBE8-4966-9E1A-44425E130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A39D-F752-4EE6-9C72-D007ADA84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7CA-CAAC-4594-8D5E-B8DB831D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009-6305-45BA-A649-07278294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A21-FAD7-486B-9C53-45F8BCF5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A1D-A446-4B1C-93C7-C9B7B11E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4BB-9A7F-4318-91CA-B90B8D0A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4E7-7DCA-47AB-AF5D-249B0B1E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D1A-26D6-4449-9567-DC217F3E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342-5928-416B-AB0C-280B9E18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7CB-8C76-4795-80EA-26FAC2F5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4AE-CCE2-4644-92ED-9CA62AA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4F9-F222-486F-96A2-3D57070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C9B-C213-4022-BF65-66F3F5AD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ABB9-4C87-4A99-BF3C-CDAA6214E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ROP-LIVESTO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-farm feed formulation using locally available crops and trees/shru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orporation of non-starch grain staple food crops into livestock feeds (Cassava &amp; sweetpotato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soil seed crops (sunflower, siemsim, cotton, soya be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cereal by products (Maize, sorghum, mille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fodder from tree/shrubs (leucaena &amp; moringa leaf me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 and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forest/trees/shrub seed production and supply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dder bank/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, ICRISAT, C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EX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sture 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gration of trees/shrubs into pasture with focus on carbon sequestration/C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ies for forage  and tree seeds and planting mate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land use planning to minimize confl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luencing policy, by-laws &amp; regul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etings of farmers and livestock keepers to identify how they can help each oth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ure management and exchange for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cking rates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/knowledge on child nutr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p residues/by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zing 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farmer-livestock keepers conflict resolution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use planning meetings with inputs from relevant ministries and local 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flip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VESTOCK-SOIL-CROP INTER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vestock-Soil-Water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re quality and optimum application r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 manure quality (nutrient content) in relation to feed and/or pasture typ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optimum application rate for man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on-farm trials/demonstration for the 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ntory of 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-Hombolo (Elirehem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RAF (Water Harvesting Uni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BF/C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gender, climate change, capacity  building, are integrated in all research activit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d and fertil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1258920" y="1447920"/>
            <a:ext cx="3600360" cy="3205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179280" y="3357720"/>
            <a:ext cx="3600720" cy="2966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2340000" y="3352680"/>
            <a:ext cx="3600360" cy="29718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IN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ual purpose legume crops and tree/shrubs for ruminant and non-ruminant anim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pid appraisal of available varieties /spe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selection of available varieties/species for market, disease/drought resistance, soil improvement, compatibility with cro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testing at plot and landscape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to mark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 on livestock feed uti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tilization of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post-harvesting technologies (PHT) for both crops and livestock (food and feed safe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a protocol for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out if seed/planting materials are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communities to work 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lready going on/ leverage with on-going projects (e.g. ILRI work in Mvomero),focus feed quality improvement that has implication on the manure quality/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llage Level Poultry and Crop Production for Meat and Eg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feeding and managing poul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improving human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eting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p production of f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 poultry and crop/shrub produc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entry points where resear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PHT for improvement of nutrition market and food security (food and feed safe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research proposal and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2:39Z</dcterms:modified>
  <cp:revision>48</cp:revision>
  <dc:subject/>
  <dc:title>What component technologies  would fit in this system?</dc:title>
</cp:coreProperties>
</file>